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63F14-2884-4D3C-A80E-EC288ACC5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5D202-DEDD-4D90-AEEB-6FBA8FB61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B9DE1-2C3C-481E-8216-3B94B5BA1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9F552-3161-4428-BB8E-070A32ABE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25F34-54B6-49E8-905A-5D556278E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2418A-49F5-47E7-8CD1-D5A4A3161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B3FFA-79E8-4469-8909-A6B5E4217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C76E4-3F92-4189-AB13-E359C9DB0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FB070-68F2-4820-8D35-852B7D65D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5CED2-83F8-4F1F-B0B4-22200FFCB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91955-18A1-4AFE-A8A5-D4E792BA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84064-7E36-42A1-B699-EA472FE97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7F427-BAB7-433B-AE40-21331519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6C8C4-2CAD-4053-857C-34397D62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B9BDD-405B-453C-9AE0-CB16C41FC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F40E4-5A7F-4095-92CD-F5ACD6BF6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7DCD6-2D04-4643-B605-F18D368BD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42D66-7F47-48A5-BD5E-633B802E9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F645A-4581-4045-9542-633523F0A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B94DF-ADEB-48CC-855A-45EE74014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FCDA5-B231-4561-BEB9-7A7562CAD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663F7-3B97-441B-A51E-DA391877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2B5C6-06AA-4912-A54D-79CEA8B0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D1DAD-B8FF-4D4B-9945-C43CD475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33DBD-4B6E-4B19-83E5-D0DF31F5B9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44019-061F-4BF6-8B08-96D1AD2576B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hapter 18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newing the Sectional Strugg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848-185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romise of 1850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Compromise of 1850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alifornia admitted as a free state (unbalanced Senate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ew Mexico &amp; Utah open to slavery on basis of popular sovereign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Fugitive Slave Law of 1850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leeing slaves could not justify on their own behalf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ortherners who aided slaves subject to fines &amp; jail tim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outhern gai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Picture 5" descr="reward2"/>
          <p:cNvPicPr/>
          <p:nvPr/>
        </p:nvPicPr>
        <p:blipFill>
          <a:blip r:embed="rId1"/>
          <a:stretch/>
        </p:blipFill>
        <p:spPr>
          <a:xfrm>
            <a:off x="3886200" y="4792680"/>
            <a:ext cx="243828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feat of the Whig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lection of 185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mocratic Candidate: Franklin Pier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ig Candidate: Winfield Scott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e Polked ‘em in ’44; we’ll Pierce ‘em in ’52!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ig party was split on issue of slavery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ierce wins the ele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rks the end of the Whig party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Picture 5" descr="220px-FranklinPierce"/>
          <p:cNvPicPr/>
          <p:nvPr/>
        </p:nvPicPr>
        <p:blipFill>
          <a:blip r:embed="rId1"/>
          <a:stretch/>
        </p:blipFill>
        <p:spPr>
          <a:xfrm>
            <a:off x="7048440" y="0"/>
            <a:ext cx="209556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1" name="Picture 4" descr="main"/>
          <p:cNvPicPr/>
          <p:nvPr/>
        </p:nvPicPr>
        <p:blipFill>
          <a:blip r:embed="rId1"/>
          <a:stretch/>
        </p:blipFill>
        <p:spPr>
          <a:xfrm>
            <a:off x="304920" y="1143000"/>
            <a:ext cx="8686800" cy="46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ierce, the Expansionist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irit of Manifest Destin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mericans looking for land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ub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utherners attempt to secure land (slavery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icaragua- Americans take over here, angers Britai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veted Cub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veted by Southerners who saw it as best slave territory avail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stend Manifest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stated that if Spain didn't allow America to buy Cuba for $120 million, America would attack Cub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pain's continued ownership of Cuba endangered American interests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adsden Purchase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continental railroad  proposed.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adsden Purchase-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efferson Davis (secretary of war) had James Gadsden buy area from Mexico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853- ceded to US for $10 mill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railroad ran from California to Houston, Tex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4419720" y="4800600"/>
            <a:ext cx="270504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Kansas- Nebraska Ac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ansas &amp; Nebraska territory to be decided by popular sovereign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ansas: slave sta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braska: free sta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ssouri Compromise forbade slavery in Nebraska territory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pealed Missouri Compromi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pported by Pierc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gress Legislates Civil Wa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ansas-Nebraska Act wrecks 2 compromis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ssouri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85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mocratic Party shatter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publican Party formed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tests against slave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cluded Whigs, Democrats, Free-Soilers, Know-Nothing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outherners hated Republica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pular Sovereignty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opular Sovereignty-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sovereign people of a territory should determine status of slave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pular appe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ublic &amp; politicians supported it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General Lewis Cass-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hosen as Democratic candidate for president in 184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5" descr="220px-Lewis_Cass_circa_1855"/>
          <p:cNvPicPr/>
          <p:nvPr/>
        </p:nvPicPr>
        <p:blipFill>
          <a:blip r:embed="rId1"/>
          <a:stretch/>
        </p:blipFill>
        <p:spPr>
          <a:xfrm>
            <a:off x="3581280" y="4800600"/>
            <a:ext cx="16527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lection of 1848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Zachary Taylor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chosen as Whig candid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o official stance on slaver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(owned many slave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Free Soil Party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gainst Wilmot Proviso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dvocated federal aid for internal improvement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/ slavery, wage labor would wither away &amp; so would the chance for the American worker to own proper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andidate: Martin Van Bure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Zachary Taylor wins elec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Picture 5" descr="220px-Zachary_Taylor-circa1850"/>
          <p:cNvPicPr/>
          <p:nvPr/>
        </p:nvPicPr>
        <p:blipFill>
          <a:blip r:embed="rId1"/>
          <a:stretch/>
        </p:blipFill>
        <p:spPr>
          <a:xfrm>
            <a:off x="7048440" y="762120"/>
            <a:ext cx="209556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old Rush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848- Gold is discovered in Californi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old fever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d to violence &amp; diseas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lifornia drafted own constitution in 1849 &amp; applied for admi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cluded slavery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ould bypass traditional territorial sta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t supported by southern sta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5" descr="220px-P-1252"/>
          <p:cNvPicPr/>
          <p:nvPr/>
        </p:nvPicPr>
        <p:blipFill>
          <a:blip r:embed="rId1"/>
          <a:stretch/>
        </p:blipFill>
        <p:spPr>
          <a:xfrm>
            <a:off x="6858000" y="0"/>
            <a:ext cx="228600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ectional Balance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5 slaves states, 15 free sta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lifornia could establish precedent for the rest of the Mexican Cessio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orried the south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ss of runaway slaves also worrisome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Underground Railroad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formal chain of stations (antislavery homes) through which runaway slaves were spirited by abolitionists to free-soil sanctuary of Cana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rriet Tubma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uth losing 1,000 runaway slaves per  year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Picture 5" descr="335px-Undergroundrailroadsmall2"/>
          <p:cNvPicPr/>
          <p:nvPr/>
        </p:nvPicPr>
        <p:blipFill>
          <a:blip r:embed="rId1"/>
          <a:stretch/>
        </p:blipFill>
        <p:spPr>
          <a:xfrm>
            <a:off x="380880" y="4343400"/>
            <a:ext cx="3657600" cy="2117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220px-Harriet_Tubman"/>
          <p:cNvPicPr/>
          <p:nvPr/>
        </p:nvPicPr>
        <p:blipFill>
          <a:blip r:embed="rId2"/>
          <a:stretch/>
        </p:blipFill>
        <p:spPr>
          <a:xfrm>
            <a:off x="5410080" y="4343400"/>
            <a:ext cx="17622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enatorial Giant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gressional Debate of 1850- called to address possible admission of California to the Un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Henry Clay-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"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Great Pacificator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" proposed a series of compromises- North enact a stricter fugitive-slave law. 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John Calhoun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"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Great Nullifier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" proposed to leave slavery alone, return runaway slaves, give the South its rights as a minority, and restore the political balance. 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Daniel Webster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 proposed that all reasonable compromises should be made with the South and that a new fugitive-slave law be formed. 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gainst slaver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elt that cotton could not grow in Mexican Cession territor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adlock &amp; Danger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William H. Sewar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senator of New York; antislave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gued that God's moral law was higher than the Constitu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sident Taylor bent on vetoing any compromise between the North &amp; South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reaking Congressional Logja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sident Taylor died in 185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llard Fillmore became president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igned series of compromise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(brief) Era of Good Feelings- talk of secession subsided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5" descr="220px-Millard_Fillmore"/>
          <p:cNvPicPr/>
          <p:nvPr/>
        </p:nvPicPr>
        <p:blipFill>
          <a:blip r:embed="rId1"/>
          <a:stretch/>
        </p:blipFill>
        <p:spPr>
          <a:xfrm>
            <a:off x="4267080" y="3943440"/>
            <a:ext cx="209556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9T01:45:10Z</dcterms:created>
  <dc:creator>emily.johnson</dc:creator>
  <dc:description/>
  <dc:language>en-US</dc:language>
  <cp:lastModifiedBy>Emily Johnson</cp:lastModifiedBy>
  <dcterms:modified xsi:type="dcterms:W3CDTF">2012-11-29T02:01:50Z</dcterms:modified>
  <cp:revision>4</cp:revision>
  <dc:subject/>
  <dc:title>Chapter 18</dc:title>
</cp:coreProperties>
</file>